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4088C-53F5-4662-AB4B-02AD4F8A1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48669-9FE0-4657-A0DF-9AD3DEB6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E3831-0A08-4693-B13A-E79F7F429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697F5-DF63-498F-93FC-419F83AB8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AE49-6140-425C-BE90-A58CFE2C4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BEDD-C78E-4440-8851-55BA7EA0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50DF-D26E-4215-BEDF-838E2CC2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2C2F-E684-434E-A66E-112B1B49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336A-0DDA-478A-A621-72F466C8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DAEE-9310-485D-81A2-ACC42425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7A2B-A5DA-490C-A66B-F7A6966A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C989B-66A3-4CFB-B922-2E1E1656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4FD7-4362-4326-AF8A-0F1B8F78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D603-B5C7-4431-8C06-6DEC83EA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9104-84E6-46C5-B7BC-6194F4A5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1D96-A2EF-4E3A-915D-943825EE0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4B30-8B41-4F36-8C35-F3D7A103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E08DE-88A0-4951-B0FD-117E115A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D0E73-91C4-44D3-842F-E6460E63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796BB-311F-4954-87C0-FF4D72A2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343D7-711B-495C-B54F-309BA46F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D070F-86DF-4890-B12A-1F055AAB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3A8D5-7CCC-4771-BC21-83E10C72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68384-C690-4179-9773-9E2856D2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9962-F186-442F-9975-D3D8A6C5F5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EF2B-7EFA-4761-95A1-43ACAB398A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Actividad Inicial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11/04/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3581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juga los verb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st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200400" y="1981080"/>
          <a:ext cx="5791320" cy="4237200"/>
        </p:xfrm>
        <a:graphic>
          <a:graphicData uri="http://schemas.openxmlformats.org/drawingml/2006/table">
            <a:tbl>
              <a:tblPr/>
              <a:tblGrid>
                <a:gridCol w="1930320"/>
                <a:gridCol w="1930320"/>
                <a:gridCol w="1930680"/>
              </a:tblGrid>
              <a:tr h="648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sist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Com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32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os verbo ‘DAR’ y ‘VER’ en el Preteri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reterito de los verbos DA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to give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V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to se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 conjugan igual que los verbos que terminan en –ER/-IR pero SIN ACEN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                   </a:t>
            </a: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Dar         /        </a:t>
            </a:r>
            <a:r>
              <a:rPr b="1" lang="es-ES_tradnl" sz="3200" spc="-1" strike="noStrike">
                <a:solidFill>
                  <a:srgbClr val="990099"/>
                </a:solidFill>
                <a:latin typeface="Arial"/>
              </a:rPr>
              <a:t>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Él Ella 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los Ellas U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975480" y="3809880"/>
            <a:ext cx="499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3784320" y="4343400"/>
            <a:ext cx="962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D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3841200" y="4800600"/>
            <a:ext cx="688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3715560" y="5334120"/>
            <a:ext cx="1137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Di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3639240" y="5943600"/>
            <a:ext cx="1206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Die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6570360" y="3809880"/>
            <a:ext cx="471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Verdana"/>
              </a:rPr>
              <a:t>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6379200" y="4343400"/>
            <a:ext cx="935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Verdana"/>
              </a:rPr>
              <a:t>V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6512400" y="4800600"/>
            <a:ext cx="660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Verdana"/>
              </a:rPr>
              <a:t>V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6310800" y="5334120"/>
            <a:ext cx="1110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Verdana"/>
              </a:rPr>
              <a:t>Vi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6386760" y="5943600"/>
            <a:ext cx="1179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Verdana"/>
              </a:rPr>
              <a:t>Vie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 8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38088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area # 67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19:28:00Z</dcterms:created>
  <dc:creator>Helen Zumaeta</dc:creator>
  <dc:description/>
  <dc:language>en-US</dc:language>
  <cp:lastModifiedBy>Helen Zumaeta</cp:lastModifiedBy>
  <cp:lastPrinted>2016-04-08T14:52:12Z</cp:lastPrinted>
  <dcterms:modified xsi:type="dcterms:W3CDTF">2016-04-11T20:17:40Z</dcterms:modified>
  <cp:revision>20</cp:revision>
  <dc:subject/>
  <dc:title>Me llamo _______               Clase 8 im La fecha es el 6 de diciembre del 2012</dc:title>
</cp:coreProperties>
</file>